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CB3-FFBF-48CE-BCF2-91A6D63B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C9A-F37E-4784-B2D9-AF46BFF6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696-8427-4468-AC66-A3CC032C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44F-1399-4DC8-9A67-88B1DDE2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B07-808B-420E-8968-0DFD4A34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2F3-FE8C-423E-B15D-9C302FAD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B45-7757-4854-ACFB-E3B76AC3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0E1-5AE7-4A29-BF6C-A345CB48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733-FBCE-4482-9C4A-D48FE0B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CCA-1F6B-4C6E-80DA-023B718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E43-F5FF-4026-A681-CEEE947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12E-9BBC-4BD6-B651-2B9C6C58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1D01-67EF-4814-80A7-39899FA8F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0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oday you will read about a birthday.  One friend had the freedom to come early to help set up a game. The mother and father helped too.  Why are family celebrations specia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0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oday we will read a story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bout a girl named Cecilia. She is having a party for her tía. She must decide what gift to give her. Have you ever been to a surprise party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e will read about Magda again today. Magda is helpful in the kitchen.  Magda works slowly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hile Abuela works quickly.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gda may not make her tortillas perfectly round, but people like them. What would you like to learn how to m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8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oday we will read about family birthday traditions. When is your birthday? Does your family have special birthday tradi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6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his week we read about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birthday traditions and customs. Celebrations create lasting memories.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Why are family celebrations specia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1-04-24T01:34:47Z</dcterms:modified>
  <cp:revision>61</cp:revision>
  <dc:subject/>
  <dc:title> Morning Warm- Up! The cat needs some water.  The dog wants a bone.  That bird lives in a birdhouse where she feels quite at home.  How do people take care of pets?</dc:title>
</cp:coreProperties>
</file>